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dailydouble.wav" ContentType="audio/x-wav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0CF-BD69-4CD7-AD18-6BB78BC2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E7E-20DD-4F0A-ACBF-A029E1CA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CBC-F558-47A0-8201-B1801689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392-1940-4257-8564-CD8351B0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9115-ECDC-4C2E-B062-A936EED1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767-13BF-4545-885B-1FD3860F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E028-475E-40A9-B068-F586635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410E-2E51-4B6B-BB55-7ABF9BD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B2D-17A0-443C-A311-742EF305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D0C6-F4A0-4165-8D3E-CD4A4837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A175-BB3C-4DD4-B53D-8FEF4AA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643-2271-4B5B-B259-DE1A52E8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EB3-6B39-423C-B822-C542858D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F620-6168-4E51-90E4-323E4AA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77C9-7AD5-4FFD-BF19-D9401370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05F-C973-4AC6-8E25-4509562D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0F75-CB48-4D4C-80B7-1A806F95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044-9D93-4A8F-A7BF-24B4ACC3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F59-A32A-4A1A-B932-BB5CDC4E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49C-51C5-4529-B3B1-CE25DCCD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0CD-4D8C-4050-9923-F7FDB4F6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91F-2A8A-4C26-8B28-BD9546B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04B-76B5-449C-8D11-135896FE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08B-BDD4-4C87-A079-476B9926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A25-2C2C-4502-A194-BB0255D500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AutoShape 10">
            <a:hlinkClick r:id="rId2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03A0-0D4B-4792-8232-A13DECB262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5.xml"/><Relationship Id="rId5" Type="http://schemas.openxmlformats.org/officeDocument/2006/relationships/slide" Target="slide19.xml"/><Relationship Id="rId6" Type="http://schemas.openxmlformats.org/officeDocument/2006/relationships/slide" Target="slide23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" Target="slide12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4097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Jokerman"/>
              </a:rPr>
              <a:t>T</a:t>
            </a:r>
            <a:r>
              <a:rPr b="0" lang="en-US" sz="5400" spc="-1" strike="noStrike">
                <a:solidFill>
                  <a:srgbClr val="ffffcc"/>
                </a:solidFill>
                <a:latin typeface="Jokerman"/>
              </a:rPr>
              <a:t>he Industrial Revolution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Jokerman"/>
              </a:rPr>
              <a:t> Jeopardy </a:t>
            </a:r>
            <a:r>
              <a:rPr b="0" lang="en-US" sz="4800" spc="-1" strike="noStrike">
                <a:solidFill>
                  <a:srgbClr val="ffffcc"/>
                </a:solidFill>
                <a:latin typeface="Jokerman"/>
              </a:rPr>
              <a:t>Game</a:t>
            </a:r>
            <a:r>
              <a:rPr b="0" lang="en-US" sz="5400" spc="-1" strike="noStrike">
                <a:solidFill>
                  <a:srgbClr val="ffffcc"/>
                </a:solidFill>
                <a:latin typeface="High Tower Text"/>
              </a:rPr>
              <a:t> </a:t>
            </a:r>
            <a:br>
              <a:rPr sz="48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391520" cy="40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923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Bookman Old Style"/>
              </a:rPr>
              <a:t>What would you include in the definition of the “Industrial Revolution”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160" y="3733920"/>
            <a:ext cx="792324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Dramatic changes in the econo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Factories were buil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People moved to c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New inventions were taking pl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27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Jokerman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Jokerman"/>
              </a:rPr>
              <a:t> 100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8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is movement from one place to anoth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8680" y="4245120"/>
            <a:ext cx="79232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Mig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Vocabulary 2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82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was it called when the government had a “hands off”  approach to the economic syste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04520" y="4429080"/>
            <a:ext cx="792468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Laissez F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Vocabulary  3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19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at is it called when wealth is divided equally among all peopl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4960" y="4265640"/>
            <a:ext cx="792036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Socialis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Vocabulary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0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at word describes the following social problems: CRIME, DISEASE, BAD SANI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5486400"/>
            <a:ext cx="72626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Pover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Jokerman"/>
              </a:rPr>
              <a:t>Inventions 100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did James Watt inven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04520" y="35053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The steam eng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Inventions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4520" y="2017440"/>
            <a:ext cx="7924680" cy="20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o invented the Cotton G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8680" y="4098600"/>
            <a:ext cx="7923240" cy="19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Eli Whit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Inventions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o invented the telephon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04520" y="4846320"/>
            <a:ext cx="792468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Alexander Graham Be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Jokerman"/>
              </a:rPr>
              <a:t>Inventions 300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12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Who was Isaac Singe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04520" y="3581280"/>
            <a:ext cx="79246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Creator of a sewing machine comp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More Inventions 1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8150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o were the brothers that invented the airpla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440" y="4648320"/>
            <a:ext cx="79246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Orville and Wilbur Wr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kerman"/>
              </a:rPr>
              <a:t>Industrial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905120"/>
          <a:ext cx="8717040" cy="37335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38200"/>
                <a:gridCol w="1454040"/>
                <a:gridCol w="1467000"/>
                <a:gridCol w="145260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Life before the Industrial Rev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Vocabul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Inven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More Inven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Life during the Industrial Rev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1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2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3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4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5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6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7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8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9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10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78"/>
          <p:cNvSpPr/>
          <p:nvPr/>
        </p:nvSpPr>
        <p:spPr>
          <a:xfrm>
            <a:off x="1981080" y="5943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okerman"/>
              </a:rPr>
              <a:t>Final Jeopardy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More Inventions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at did Henry Ford inven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04520" y="4846320"/>
            <a:ext cx="792468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The Model T (and other cars too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More Inventions 3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o invented the Kodak Camer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6440" y="4888080"/>
            <a:ext cx="769140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rge Eastm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More Inventions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at was Charles Goodyear famous fo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04520" y="4429080"/>
            <a:ext cx="792468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Inventing vulcanized rubber (used on tire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Kristen ITC"/>
              </a:rPr>
              <a:t>Life During the Industrial Revolution 1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Name two jobs that children had during the Industrial Revol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1760" y="4267080"/>
            <a:ext cx="79232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Worked in facto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Worked in coal m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Life During the Industrial Revolution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at are two ways the Industrial revolution improved people’s liv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3885840"/>
            <a:ext cx="7923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A new middle class develop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New inventions made items cheaper to bu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eople were able to find work in the c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Life During the Industrial Revolution 3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What were two negative effects of the Industrial Revol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8680" y="3430080"/>
            <a:ext cx="792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ollution in the c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oor/unsafe working condi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Life During the Industrial Revolution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22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Describe attributes of the new middle cla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120" y="3200040"/>
            <a:ext cx="792324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The population gr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30320" indent="-1303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eople were able to become very wealt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30320" indent="-1303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Most of the people were merch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Jokerman"/>
              </a:rPr>
              <a:t>Final Jeopardy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Give two reasons why the steam engine was the most important invention of the industrial revolu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61760" y="3962520"/>
            <a:ext cx="792468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ducts were able to be transported f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actories no longer had to be located near water so more could devel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MacOS" descr=""/>
          <p:cNvPicPr/>
          <p:nvPr/>
        </p:nvPicPr>
        <p:blipFill>
          <a:blip r:embed="rId1"/>
          <a:stretch/>
        </p:blipFill>
        <p:spPr>
          <a:xfrm>
            <a:off x="5335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MacOS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3281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117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Government  1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o was Robert Ow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8680" y="4245120"/>
            <a:ext cx="79232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ne of the earliest believers in socialis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Government 2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at is a belief of the Socialist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304776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ealth should be evenly divided between all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Jokerman"/>
              </a:rPr>
              <a:t>Government 3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Name two aspects of capitalis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3885840"/>
            <a:ext cx="7923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Personal independence (no government interferenc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Unequal division of wealth (no public fund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Jokerman"/>
              </a:rPr>
              <a:t>Government 400</a:t>
            </a: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word is defined as “money that is invested in busine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724280"/>
            <a:ext cx="7923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api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100</a:t>
            </a: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ere did most of the people live before the beginning of the Industrial Revolu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240" y="5028840"/>
            <a:ext cx="79232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In the country or the rural are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What are two examples of power sources available before the Industrial Revol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8680" y="4245120"/>
            <a:ext cx="792324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uman labor (manpow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r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3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1" i="1" lang="en-US" sz="4000" spc="-1" strike="noStrike">
                <a:solidFill>
                  <a:srgbClr val="ffffcc"/>
                </a:solidFill>
                <a:latin typeface="Bookman Old Style"/>
              </a:rPr>
              <a:t>What country did the Industrial Revolution begin i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4495680"/>
            <a:ext cx="792324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ookman Old Style"/>
              </a:rPr>
              <a:t>Great Bri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1:50:38Z</dcterms:created>
  <dc:creator>cswinson</dc:creator>
  <dc:description/>
  <dc:language>en-US</dc:language>
  <cp:lastModifiedBy>Information Technology</cp:lastModifiedBy>
  <dcterms:modified xsi:type="dcterms:W3CDTF">2011-04-26T15:24:30Z</dcterms:modified>
  <cp:revision>127</cp:revision>
  <dc:subject/>
  <dc:title>Ancient Greece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